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C80B-BBFC-4378-9196-759347F6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8A40-FE85-40EF-9CEF-78501C27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A75A-4023-4905-820F-AC764F6A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7185-0554-47DF-90BA-FBCDDAB0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5DB8-6CF1-4D20-A0A4-A37F57E1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B67A-31F4-4E59-A031-D54B3614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6D4-C3EF-4976-9EEB-A7995CA0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F198-D7A3-41D7-9EC8-BC6EA8A4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75B2-D074-47BE-86AC-2F4BF9EA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D900-EB18-4FAB-A434-6F1C71A0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5B03-1779-4DEB-8598-AD84F7D9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0A5B-4B8D-47A0-A927-A2A68D1C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B472-F2AF-4729-9588-5ECE67D5A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Stat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600200"/>
            <a:ext cx="2590920" cy="49528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676520"/>
            <a:ext cx="2590560" cy="4952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1676520"/>
            <a:ext cx="2590920" cy="4952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14400" y="1828800"/>
            <a:ext cx="137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ol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038480" y="1828800"/>
            <a:ext cx="1133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Liqu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0" y="1828800"/>
            <a:ext cx="137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G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9:02:48Z</dcterms:created>
  <dc:creator>344-student</dc:creator>
  <dc:description/>
  <dc:language>en-US</dc:language>
  <cp:lastModifiedBy>344-student</cp:lastModifiedBy>
  <dcterms:modified xsi:type="dcterms:W3CDTF">2012-11-07T19:02:51Z</dcterms:modified>
  <cp:revision>1</cp:revision>
  <dc:subject/>
  <dc:title>Three States of Matter</dc:title>
</cp:coreProperties>
</file>